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933-249E-4F7F-A274-4048F125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764-F050-4B86-A9B4-E54C65B5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384-FA44-4BFC-9DAC-D66DA9CF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3EC-D167-4F42-9F2F-179D9C9B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FA9-0907-47EE-A028-855B720F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B3E-87F9-4F77-9FCE-C39ACD5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029-F859-4523-ACE6-3EE91842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585-F53E-46E3-B62D-F49C594C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7CA-68FB-4CDE-8DAE-07BD5AA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6BB-0348-4B96-B95D-CAE1138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D3B-5F4F-4920-B0A1-C5F899A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28E-A97B-4E73-9DC9-F225907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2774-862B-4637-B004-C02EA81E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17400"/>
            <a:ext cx="777240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153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1720"/>
            <a:ext cx="77821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88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02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32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41240"/>
            <a:ext cx="7391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714240"/>
            <a:ext cx="662940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4674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79320"/>
            <a:ext cx="73915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90480"/>
            <a:ext cx="81536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0:21:55Z</dcterms:created>
  <dc:creator>Lions Park</dc:creator>
  <dc:description/>
  <dc:language>en-US</dc:language>
  <cp:lastModifiedBy>Lions Park</cp:lastModifiedBy>
  <dcterms:modified xsi:type="dcterms:W3CDTF">2007-03-14T20:55:25Z</dcterms:modified>
  <cp:revision>2</cp:revision>
  <dc:subject/>
  <dc:title>PowerPoint Presentation</dc:title>
</cp:coreProperties>
</file>